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B21-D3FE-4122-B315-09B1E6A2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732-F0E8-4D00-832C-99AE9A19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7EF-0BDA-4A77-8651-4BF9CB09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9D1-1CD1-4E8A-BA01-5A026900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143B-14BA-4233-8C81-FED9ED49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E47E-549E-46B9-BFFC-C5D03582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B2E9-61F1-4AF9-ABED-8701A3C1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D88-5309-4102-A577-5C342E18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462E-0D92-46C0-9BFF-7267497B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18F7-073F-45E7-9170-655263EA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55DF-E218-4905-AD51-859A5B0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315-784F-4812-A802-F4F9335E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7C0C-1435-46FE-8194-C3DA25A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30C6-A21E-44EB-8D96-5379490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CFEC-A781-4E72-BE20-D924A14D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292B-9BFD-40BD-BC86-C303B288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AB2-9FA4-49ED-8A73-A051B47E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EF2F-7262-4E3F-80D9-B441CE0C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1587-F4EF-4F6D-B074-7AB77475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AA6F-BA96-4491-AA26-4A88C33B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54BC-8E14-4D7F-A5B4-61D6443E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46CA-018A-4474-B0B9-A7DCB7CB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AE6-076C-4BCE-9BCC-ADCCC59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F604-2B72-4877-8942-E1E2418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8707-161F-4820-B237-B3B97996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5E2D6-E867-42C6-B3C1-F26C9EC2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1CF8-569B-4219-8692-CAB400E1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8753-32D1-47B3-B076-487F4F8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B7CB2-E338-4811-B6F9-700D8C98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AA3D-E138-4B1C-B105-07B47322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694EC-6988-45AC-8487-56A3B8BD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54DA-B767-4BCE-A0D1-B04E150F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4F41-6F19-408A-B7D9-CFB9347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39B-0341-4CD8-A04A-65CDAC59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145E-5254-4424-8661-2DD9F87B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A8B3-CA50-40E4-8CAD-7805F8A2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75622-9A32-49F5-BE89-C495437E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80873-EED8-422A-8067-A009A9C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78CA-4599-42BE-8659-5FB550C5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C3B2-DE9A-4E37-9065-AC8D894C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FC69-B997-4A17-8F8C-E59C1B6F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1FA5-2B1F-4639-9D13-AAD92515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0B77-E360-430C-8CBB-38B98870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C03E-2139-4ABC-8AEB-82098BAB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FDC-8C7A-4193-9BB4-8AC61B0D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581CD-CA97-4696-9ABA-D3404026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4B0ED-2A5F-4E84-8F54-CDC7E36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CA209-E700-467F-AF2D-F0A697A0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4D3D7-B4BA-473F-9850-FA991CAB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7F47B-FE38-44CB-BF98-973DEAB4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AF43D-BE6A-4F49-B168-6C0F45D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3B2D2-8EC0-4115-8EFE-69823B96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95F28-8FF4-4C92-9C82-6748B1B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2E40-058F-463A-9B3F-328F0243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ABFCF-155A-4EEE-817A-8EB83CF7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BB7-64A0-4D8C-9304-21C96D96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D8520-1575-41EC-B66B-49AD0BF3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7486-48D8-4445-8ED5-B5901517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0515C-744C-4663-B248-627A36F5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71D6-A2C7-4DA5-B9E4-D03BD0C8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03788-A4AF-40B0-8162-8F926916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56C0-DAFE-4E00-A7C3-34233AF7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717F-9B5C-4AE3-94FE-D4AF67B5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3EF9A-94E8-466F-8CCA-005212E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759C-1EBB-4DAC-8A28-C27CD10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6FE13-7075-45EE-9021-5989219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A1A-C86F-41E9-830D-2B25128B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E26D1-C48E-4C79-9CAC-DCE44048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D1D55-B4C8-4683-AF2B-830536B1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C059C-86D6-446E-BEA4-4F4AD082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C7C-4AA5-4EE1-9225-440B5DC5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C45-F6E3-4CE5-A35F-A08129C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B11B-6F35-4D61-9ECD-705CE8DE598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0D83-1B9C-4B40-822D-198F74415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Shap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C981-DAF4-464D-9CF3-B1BD9A1C981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1C8A-3EC6-4E8E-B602-233EA9D13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hap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Right Triangle 10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11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799-5428-4EB9-A44B-E94EF17EBFF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982D-641C-483C-A47F-BF63F295C9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096-B1A7-4ACA-87D6-CCE420AC2DA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D31E-A5ED-4E7B-93FB-C2CD508A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98B5-E445-4A6E-ABC8-FF56554CAAC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1AB8-E9BC-46F6-B4B8-05E2C33CF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08C8-2D87-449A-8ED6-E1AAF5DACC9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0EF-D451-4597-A032-98B4145A7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32920" cy="1481400"/>
          </a:xfrm>
          <a:prstGeom prst="rect">
            <a:avLst/>
          </a:prstGeom>
          <a:ln w="0">
            <a:noFill/>
          </a:ln>
        </p:spPr>
      </p:pic>
      <p:pic>
        <p:nvPicPr>
          <p:cNvPr id="258" name="Rectangle 3" descr=""/>
          <p:cNvPicPr/>
          <p:nvPr/>
        </p:nvPicPr>
        <p:blipFill>
          <a:blip r:embed="rId2"/>
          <a:stretch/>
        </p:blipFill>
        <p:spPr>
          <a:xfrm>
            <a:off x="536400" y="2127240"/>
            <a:ext cx="81741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4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mponent Syste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r access compon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urity compon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etwork compon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ystem compon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ata Files and Repor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ile component data fil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fine component intrface paramet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function data repor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er access tes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ftware compatibility tes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latform tes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2:24:55Z</dcterms:created>
  <dc:creator>David Beskeen</dc:creator>
  <dc:description/>
  <dc:language>en-US</dc:language>
  <cp:lastModifiedBy>Phil Schneider</cp:lastModifiedBy>
  <dcterms:modified xsi:type="dcterms:W3CDTF">2012-05-09T09:44:47Z</dcterms:modified>
  <cp:revision>23</cp:revision>
  <dc:subject/>
  <dc:title>Product Marketing</dc:title>
</cp:coreProperties>
</file>